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958B-533B-4383-B8BD-07748FD7C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BDAC-AD51-463B-9869-E39823C97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5981-1016-4100-9DE5-F793BD894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845B-CA98-4092-8FCB-3363020FB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C91C-D3F4-4B31-8005-39443B848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EE3A-B1ED-48FB-B395-BA99935494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681BD-C1BC-4C12-A249-1557854CA0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0B48A-A967-4FD4-BC83-4BF4F3575B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02D69-30E1-495F-ACD6-67F87DF889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75A94-3630-496A-AA49-5DE1CB5808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7708-9748-4A2C-AEB5-56AFB76C6B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149FA-C848-4306-BAFD-47FEECF9F6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66F65-DCAF-4D37-BDED-7B4640F03A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151F6-05D3-4159-80A0-C451F2E771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467B2-0FD5-4A29-B355-6648304CDE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406AC-7533-4F03-9006-B5E721FA97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1693E-C65E-4B7F-8C3C-A12908B1F6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BCC87-6298-4C31-B14D-151FD931F7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29A1-60FD-4082-B89F-1F9E6221419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DF70-9CD4-4B72-8A0D-15A97E0BD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2AFE-17ED-4DA8-A5CF-03C6F68ED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4734-751F-4395-9C31-3E9A7367C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3119E-BD09-492C-BDEC-2C35AB471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81AD-8F3E-4203-A6A7-9ED7B4588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5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C265-A9F2-44FD-B3B8-27BCB7327CC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64008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2600" y="6548400"/>
            <a:ext cx="74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CC49-E29A-4FDA-88E6-B2BFBD3AD18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14400" y="64008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935240"/>
            <a:ext cx="876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4840" y="2155680"/>
            <a:ext cx="8254800" cy="2541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showingevidence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showingevidence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showingevidence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0" y="5460480"/>
            <a:ext cx="87631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cae1"/>
                </a:solidFill>
                <a:latin typeface="Verdana"/>
              </a:rPr>
              <a:t>Module 10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5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visiting Your Unit Pla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5760" y="167652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Revisiting the Unit Plan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10.12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your Unit Pla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the Showing Evidence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 and foundation sections, if needed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Student Assessment Plan section, add your ideas for how you would assess the learning throughout the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the Assessment Timeline, as nee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the Proced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the Unit Summa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8CF0-3FB4-437F-B8D1-04D3CE86EB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haring Your Results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10.1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928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hare your thoughts about your experience with the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Showing Evidence Tool: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d you try out an idea for your main unit or for a different project idea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ing your test results, do you think you will keep this tool in your unit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do you see the use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itting in with the objectives and standards you are trying to target—and your overall plan for your unit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do you see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enhancing your students’ higher-order thinking skills as well as collaboration and communication in your classroom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c00"/>
                </a:solidFill>
                <a:latin typeface="Verdana"/>
              </a:rPr>
              <a:t>[If using a wiki, enter the URL and directions here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A626-E7E1-47E4-8786-FB18DD1497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dule 10: Considering the Showing Evidence Tool for Your Unit</a:t>
            </a:r>
            <a:br>
              <a:rPr sz="1400"/>
            </a:br>
            <a:br>
              <a:rPr sz="14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Summary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10.16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5760" y="1371600"/>
          <a:ext cx="8237520" cy="434340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10 Key Poi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38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owing Evidenc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case should require students to analyze any of the following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troversial iss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batable top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al or ethical dilem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cial iss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llenge to an existing opin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case should contain supporting and opposing evidence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 sufficient quantity and quality to adequately answer the promp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6572-D4D2-4427-8832-506CA89F74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Next Sess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ule 11 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leting Your Uni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plore th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ssessing Project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resour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e an assessment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plete your un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howcase your Unit Pl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valuate the cour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B1798-2EFF-42C6-A5E0-9BA4D034E4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260A-C5B2-4C4F-8918-4A1B6ADB64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Were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990720"/>
          <a:ext cx="8237520" cy="5381640"/>
        </p:xfrm>
        <a:graphic>
          <a:graphicData uri="http://schemas.openxmlformats.org/drawingml/2006/table">
            <a:tbl>
              <a:tblPr/>
              <a:tblGrid>
                <a:gridCol w="1447920"/>
                <a:gridCol w="6789600"/>
              </a:tblGrid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rgeting Thinking in the Classroo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2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ing Standards-Based Projec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3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ing Curriculum-Framing Questions to Suppor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4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44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ing Student-Centered Assess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5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Visual Ranking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6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Visual Ranking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7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8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Seeing Reason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9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8600" indent="-22716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28600" indent="-227160"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erstand how the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owing Evidence Too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supports the argumentation proc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28600" indent="-227160"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view and rate evid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28600" indent="-227160"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cuss best uses for the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owing Evidence To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28600" indent="-227160"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t up a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owing Evidenc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proje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FED7-21ED-4756-BE26-C12F6EBA51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Are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ule 10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ing the Showing Evidence Tool for Your Uni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e a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a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scuss effective questioning techniqu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vise cases and Unit Pla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scuss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experien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br>
              <a:rPr sz="26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11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ing Your Uni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71FD-67A6-48CA-B293-13E5D5A39B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10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onsidering the Showing Evidence Tool for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Your Unit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91120" y="175248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Objectiv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spcBef>
                <a:spcPts val="12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Create a practice </a:t>
            </a:r>
            <a:r>
              <a:rPr b="0" i="1" lang="en-US" sz="17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 case</a:t>
            </a:r>
            <a:endParaRPr b="1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spcBef>
                <a:spcPts val="12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Discuss and practice effective questioning techniques</a:t>
            </a:r>
            <a:endParaRPr b="1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spcBef>
                <a:spcPts val="12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Provide and receive feedback on project ideas</a:t>
            </a:r>
            <a:endParaRPr b="1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spcBef>
                <a:spcPts val="12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Revise your case </a:t>
            </a:r>
            <a:endParaRPr b="1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spcBef>
                <a:spcPts val="12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Revise your Unit Plan</a:t>
            </a:r>
            <a:endParaRPr b="1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spcBef>
                <a:spcPts val="12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Share your experience using </a:t>
            </a:r>
            <a:r>
              <a:rPr b="0" i="1" lang="en-US" sz="17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endParaRPr b="1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779640" cy="46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E013-B309-444C-AD97-24C8BC93A3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reating a Practice Case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10.01–10.0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udent Log-I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showingevid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he project n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new clai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evide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te the evid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ttach evidence to clai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te the suppor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evidence to rate the clai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ke a conclus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5E768-BD7F-452F-9120-86F798CFED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viewing Student Work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10.05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view as a teacher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g in to the Teacher Workspace: </a:t>
            </a: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showingevidenc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ca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ke a com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BC42-5633-4B11-8C36-4E6D6598B3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haring Your Practice Case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Reviewing the Practice Cas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Module 10.06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e your unit’s topic, learning objectives, and overall concept with your reviewing te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g in to each team’s Student Workspace: </a:t>
            </a: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showingevidenc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eam’s work and make com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the projec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Reflecting on Your Cas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10.07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Showing Evidence Project Reflection Checklist and the Project Rubric on page 2.18 to review on each other’s ca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F391-8D9C-4A6D-B029-2B0A3EDF29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4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vising Your Projec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10.08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Editing Your Projec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ke changes to any of the project detai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vising Your Ca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new ideas from your colleagu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Internet to research evidence to add to your initial ca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59CD-F73B-4619-85C0-4DDC1E72A9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5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visiting Your Unit Pla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37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derstanding Best Classroom Practic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10.09–10.12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t smal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y out your ide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ablish project expect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t up teams to succe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ign teams and review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 creating an initial set of sources for evide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 a practice ca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multiple methods of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5893-E345-4202-8752-21CE2F6465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01:49:56Z</dcterms:created>
  <dc:creator>Judi Yost</dc:creator>
  <dc:description/>
  <dc:language>en-US</dc:language>
  <cp:lastModifiedBy>mjmillhX</cp:lastModifiedBy>
  <dcterms:modified xsi:type="dcterms:W3CDTF">2008-04-01T18:45:58Z</dcterms:modified>
  <cp:revision>857</cp:revision>
  <dc:subject/>
  <dc:title>Slide 1</dc:title>
</cp:coreProperties>
</file>